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7F5-F452-46FD-B10C-54F21356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4E7-8DE7-4587-8222-BAF1263D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533-DD1E-4B16-9437-3DD7C384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D98-D480-42C3-B9D6-1C944511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CFB-7F7B-447C-BC0C-4115A3FF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02E-345D-4D27-BA43-19403ECC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571-C0F9-4F4E-BB96-76B44424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782-CE72-47C5-AD7F-3B52DC45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F67-45E2-4583-9574-22B2D9C6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063-A2DA-45EF-B0C5-4455A67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D81-A55B-4F2E-8341-91649D9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50F-A610-446A-8CAF-40BCAEA1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0794-C5AF-47D3-88EB-FD65C1CCF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59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1:28:16Z</dcterms:created>
  <dc:creator> </dc:creator>
  <dc:description/>
  <dc:language>en-US</dc:language>
  <cp:lastModifiedBy> </cp:lastModifiedBy>
  <dcterms:modified xsi:type="dcterms:W3CDTF">2009-03-06T01:28:16Z</dcterms:modified>
  <cp:revision>1</cp:revision>
  <dc:subject/>
  <dc:title>Slide 1</dc:title>
</cp:coreProperties>
</file>